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B04C-8535-4E12-BE98-86D4AA415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20C-CCAA-4370-870B-4D1FF75DF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A1D-CAA6-4A07-8E61-4F62D307716B}" type="slidenum">
              <a:rPr b="0" lang="en-US" sz="1200" spc="-1" strike="noStrike">
                <a:solidFill>
                  <a:srgbClr val="3161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1C8-4ED6-48BC-B462-B430D55D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21D-915A-4B02-B217-EB1F5C94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F69C9-77B9-4B5B-A96F-3E05CB5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D8EEB-1A07-4C1F-AEAA-0CF3CBD6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1C70-4A2B-4FB6-A101-F6FBFE15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A5BB4-47C8-4F5C-ABA5-2001E77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1F750-4E0F-481C-B57C-CBBA7B4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76EC-CDA3-4842-BDAB-ADEFCBA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1A800-E653-44C5-B967-FD54A30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078FA-A597-47EE-AB14-71DF1753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D7E95-9AE5-497A-9DA9-DF422712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DF97B-ECD8-4DAF-9C17-0D63F173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CDE-79DE-4957-9D27-AE0CDE0E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9BDF5-6D8E-4C9F-9F95-AE121E7C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08D9E-D193-41FB-AE54-7210D8E6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BAD12-5304-4522-BB10-45DBE3FB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E401-899E-48CC-A505-3C97FC4A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23FE-A978-46A8-80E2-0F1975FA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4CFAB-C284-407F-A69A-DF27BF9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D5698-8207-4C4E-8A92-1C7C999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7A578-53E2-410A-8FC1-982F880D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CA0A-0D9F-47EB-976B-E8E9398E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DA077-7101-4C38-AC53-9EC06ECA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0CB-F7A5-4C62-B8CE-7AE572CD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FF750-6CC3-4E05-92A3-2A175E5D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6F919-9361-4F46-897B-80CCA45E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F8AAF-2570-478B-AA2D-13D0F4A1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41278-34B5-4E6A-9C1F-1AD2FD6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FB736-759D-4095-B09E-8358BAD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B9FF4-AEF5-4CEF-8D7A-C7379EE0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B47D8-28E1-4F3E-9E0E-3377F3D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B6556-4C17-4662-8C8D-23DA8BF7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40C69-DD6A-46BF-876F-08D49524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D46F-969E-47F5-B767-2D4D1B1B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F55-7B2E-4037-8E3A-297FB3ED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CA9BB-829E-4105-B414-785E09D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68600-2939-46C0-BAF9-37779BFE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FC25-09A4-4E6D-9BB6-A3E35A87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FDEFD-9EE3-4C97-8DD8-0EE3A678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E2A28-F85D-45C6-A994-DC35066B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776EE-C31F-492E-A57D-05D7F78F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C8C7E-3E08-4E41-BF70-36E717C5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D852B-22D8-4AFB-BB6C-E33EA186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3B1CC-6F68-43C3-A8A4-1BA4BC3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EA449-D709-4C9F-8617-4D71B60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7C6-5C1B-4381-9305-D4E97332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13183-972B-43AD-A119-FA63568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69396-BB9B-4D1D-A42F-CA5DB37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785C4-47BD-4179-B559-B1BA632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1B2B0-5B61-454E-9C8A-91A0AE4F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FD24F-8C70-4114-9C74-C5FB1337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3651-E664-4FE2-A0E4-9B7B1DC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353-7965-4899-AA59-38B653A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AE7F-F924-4D7F-867B-B2E75895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87CD-81E4-4CE3-A273-1C444C6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AF3-5F91-4E7B-8571-1F28263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2F7-527C-409F-A9C0-D6870F58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989-1953-4DFD-BB3A-95DCE75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D67E-B083-412B-AEB0-7818ECE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773A-0DEE-4746-9FDB-368319A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1CF-5B65-409E-B368-C879D759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083F-78BA-43F3-AC85-36D1EB9A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FA79-4C6C-4B45-82BC-B0505475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87B9-E050-4594-8597-B4221BCD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0808-51F0-4068-AEE9-7B8CAF7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DDF3-6784-4975-B56E-6071916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C704-6391-45BA-816C-0135668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77B-8B96-4732-8C3D-076F671D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A7CA-056F-4F6E-BFEC-5AFFB0BF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0D17-E996-4348-ABF8-06F6B3B7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8010-1D10-4C60-868F-84D3547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6E00-BF04-4B41-9E5F-70C82C0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661B-D4C2-4664-8E6D-CA607DA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53D3-D8D5-498F-9F70-05240F6D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3952-15EC-41A6-A0A2-4BE76F27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92C1-2A18-4F50-9BF6-43696455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2E6D-72F5-4996-B18A-FEB8AFB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F006-E29C-423C-A3E5-0F45435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033-394D-4876-B853-36AC3D5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084C6-4A87-4217-B488-C70CC01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4833-276A-42FE-A1AA-E0C55CCF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B82F-DC41-4990-8CC2-0F5D7845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6E61-AD39-4EEE-B922-7683628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20CB-6053-4A07-9F3B-791E954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A67F5-4EF1-4FC8-815F-446CC08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E4AA-D7BA-4C9A-8743-17048FE9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C4DA-3650-46D7-B3A5-6F3CF804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C03B-E41C-4A59-B3D4-6FD25ECD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549C-FC99-4625-97A9-33A99534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15A-B701-40BD-9A9D-59E3623E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AA61-DB1C-4BF7-B270-962226E6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8C0B-DF63-415E-808C-15A3C0F6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CE225-6DC8-4031-B189-3D7C322F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DE7B-69B1-4F31-AECE-9507258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63EF-AEE0-4844-ABFE-1173E064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2B81C-04B4-47BF-B367-4B90E22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631D-6503-4662-A93F-A9829C5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8EFC-3790-4516-990F-AF881C0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D8493-8627-4CD8-B55E-F02EFDD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9486-F241-40B1-90BB-23A41DBB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6E8-6397-428E-98B5-6F60F322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FF3C-0377-4C6C-845E-4A7256FB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18BC8-1DED-43AE-B544-92C728D4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DA16-1792-4CDD-8BC5-8F7FE4D0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7697-CA53-42FC-A15E-2D69B606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679B-7DFC-4C84-902A-6CB0B42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A050-4FA8-47F5-BABD-65EB7131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DCC8-9EF0-4F1D-BBF1-CDDF3AF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9936-E023-429D-9D10-87FEA85C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28FB1-974A-43AE-BE98-16A4E28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EEB7-E7F9-41A7-9040-A0BC402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159-4E77-4DA8-8F19-2EB3B1B1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0B63-9DCF-482B-9E3A-1B5D8317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5ABE2-362C-46E9-94CD-0A7FFB62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F9F5-5EF3-4AC9-A45A-691DA76A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48E3-9697-443B-BFCA-DB0D30B0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486D5-AD33-476D-9E4F-ACE564C4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115B9-32C3-4524-8096-21088392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44F5E-407C-4461-BFCA-2D011B8B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0A95-9BDB-4E85-BA94-B5DFCD6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EC463-1C36-462C-978B-03466B6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9F8E-F9B8-493D-A643-E53BF1DE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6A3-69C0-4349-9CD2-3805F66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4BA7-42B0-4C28-B29B-6ABF583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1CF02-8BD1-4CC0-9BAD-49B498B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B6B0F-0D6E-4257-8479-7759A170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2484-50F8-4A90-ADF0-C13F160A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A68EA-0217-4CEA-991E-7FA13936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9D1F4-1930-4B0C-837B-8CA7FCA7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3B8A-CA31-42B7-AE73-DF9BDCB0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8077-A1FF-4FA0-A513-224EBA7A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7966-25CB-4376-B929-3A2D706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8D98-B8EE-422B-8946-89247BB9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387-C1AA-4433-AC6A-D5A0E01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0A176-4563-4463-961A-133E92C1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C4F9-3355-46D5-BF3B-6D9C8843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C3F4-FDE9-4FDB-85FB-A9D9594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1E3CB-88C1-40AD-8583-BD83C5D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24D7-C9D3-4C8B-BBC6-2261C5D0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A9625-B49E-4509-A01B-AC496CD9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8D3B9-3C5E-474D-B5E0-F0CC2BBF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C491-F30F-4F33-B842-5FE3F8CA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C8C29-BCEA-4DFC-A260-26AD6A1B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58884-E689-4370-B7FA-04D5BC64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2871-6AF5-4A2F-959D-2FDA3B11F1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150-C5E8-4D10-9380-5D10B88101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3DF-1ADF-4E9B-AA4B-646BEADF10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61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F1AA-85D3-4286-B692-FDF9C54E59EA}" type="slidenum">
              <a:rPr b="0" lang="en-US" sz="1000" spc="-1" strike="noStrike">
                <a:solidFill>
                  <a:srgbClr val="3161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8833-1826-4B55-9ED8-BAE9F8AFDF80}" type="slidenum">
              <a:rPr b="0" lang="en-US" sz="1000" spc="-1" strike="noStrike">
                <a:solidFill>
                  <a:srgbClr val="c4ddc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160A-6B13-4A68-A066-F1EB3C94A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EE52-DB53-4B16-BBFB-8BDD7A35FE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9A1-3295-4827-B341-5C73B9549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824E-E239-441C-81DE-D1410703C1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9BF8-82BB-4F91-9FCC-C39FA71B5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0E60-F06C-48BF-A10B-DDB784527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746A-1D4C-4E40-ADC6-F38F284FFE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4ddc3"/>
                </a:solidFill>
                <a:latin typeface="Arial Black"/>
              </a:rPr>
              <a:t>Area and </a:t>
            </a:r>
            <a:r>
              <a:rPr b="1" lang="en-US" sz="9000" spc="-1" strike="noStrike">
                <a:solidFill>
                  <a:srgbClr val="c4ddc3"/>
                </a:solidFill>
                <a:latin typeface="Arial Black"/>
              </a:rPr>
              <a:t>Perimeter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863680" y="5181480"/>
            <a:ext cx="281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612d"/>
                </a:solidFill>
                <a:latin typeface="Times New Roman"/>
              </a:rPr>
              <a:t>By Christine Berg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12d"/>
                </a:solidFill>
                <a:latin typeface="Times New Roman"/>
              </a:rPr>
              <a:t>Edited by V T Hamilton</a:t>
            </a:r>
            <a:endParaRPr b="0" lang="en-US" sz="2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rectangle becomes a parallelogram so the formula is the similar to a rectangle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A=bh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area of a triangle is one half of the length of the base times the height since a triangle is half of a parallelogram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30" name="AutoShape 4"/>
          <p:cNvSpPr/>
          <p:nvPr/>
        </p:nvSpPr>
        <p:spPr>
          <a:xfrm rot="10771200">
            <a:off x="1980720" y="3276720"/>
            <a:ext cx="1905120" cy="1828800"/>
          </a:xfrm>
          <a:prstGeom prst="rtTriangle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1905120" y="3276720"/>
            <a:ext cx="1904760" cy="1828800"/>
          </a:xfrm>
          <a:prstGeom prst="rtTriangle">
            <a:avLst/>
          </a:prstGeom>
          <a:solidFill>
            <a:srgbClr val="8b1003"/>
          </a:solidFill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372680" y="3962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434340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 flipV="1">
            <a:off x="1523880" y="320004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H="1" flipV="1">
            <a:off x="1904760" y="5253840"/>
            <a:ext cx="609480" cy="504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2515680" y="5105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318280" y="3032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4114800" y="1600200"/>
            <a:ext cx="482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square is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4 times 4 or 16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</a:t>
            </a:r>
            <a:r>
              <a:rPr b="0" lang="en-US" sz="4000" spc="-1" strike="noStrike">
                <a:solidFill>
                  <a:srgbClr val="8b1003"/>
                </a:solidFill>
                <a:latin typeface="Times New Roman"/>
              </a:rPr>
              <a:t>triangle</a:t>
            </a: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 is one-half 16, or 8 sq.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b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(4)(4)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8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erimeter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sum of the   lengths of </a:t>
            </a:r>
            <a:r>
              <a:rPr b="0" lang="en-US" sz="6500" spc="-1" strike="noStrike" u="sng">
                <a:solidFill>
                  <a:srgbClr val="31612d"/>
                </a:solidFill>
                <a:uFillTx/>
                <a:latin typeface="Arial"/>
              </a:rPr>
              <a:t>all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sides of the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number of  square units inside a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Calculating </a:t>
            </a:r>
            <a:br>
              <a:rPr sz="9000"/>
            </a:b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bbreviations: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 = Area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l=leng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w=wid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b = base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h = height 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AREA MEASUREMEN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We measure area in square inches.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llow up each of your measurements with the following abbreviation: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1612d"/>
                </a:solidFill>
                <a:latin typeface="Arial"/>
              </a:rPr>
              <a:t>25 </a:t>
            </a: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Sq. in </a:t>
            </a:r>
            <a:endParaRPr b="0" lang="en-US" sz="5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o find the area multiply the length times the width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1612d"/>
                </a:solidFill>
                <a:latin typeface="Arial"/>
              </a:rPr>
              <a:t>A = lw</a:t>
            </a:r>
            <a:endParaRPr b="0" lang="en-US" sz="10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9360">
            <a:solidFill>
              <a:srgbClr val="01030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Draw a rectangle on graph paper. Cut off a </a:t>
            </a:r>
            <a:r>
              <a:rPr b="0" lang="en-US" sz="5500" spc="-1" strike="noStrike">
                <a:solidFill>
                  <a:srgbClr val="31612d"/>
                </a:solidFill>
                <a:latin typeface="Arial"/>
              </a:rPr>
              <a:t>triangle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on one side and add it to the other. 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8380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812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3581280" y="5791320"/>
            <a:ext cx="60984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5486400" y="5791320"/>
            <a:ext cx="60948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6324480" y="5791320"/>
            <a:ext cx="2514600" cy="914400"/>
          </a:xfrm>
          <a:prstGeom prst="parallelogram">
            <a:avLst>
              <a:gd name="adj" fmla="val 68750"/>
            </a:avLst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9544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2785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6312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7T17:17:42Z</dcterms:created>
  <dc:creator>NNPS</dc:creator>
  <dc:description/>
  <dc:language>en-US</dc:language>
  <cp:lastModifiedBy>bethany.jackson</cp:lastModifiedBy>
  <cp:lastPrinted>2012-02-01T21:38:11Z</cp:lastPrinted>
  <dcterms:modified xsi:type="dcterms:W3CDTF">2012-02-08T22:24:05Z</dcterms:modified>
  <cp:revision>9</cp:revision>
  <dc:subject/>
  <dc:title>Area and Perimeter</dc:title>
</cp:coreProperties>
</file>